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9D28-5FF3-47CF-9312-00F50FE5F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A199-B235-418B-ABE9-1FEB8BC07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1575-C7A7-4B71-A3E6-320259F94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35BC-9F16-4A96-8036-4DE31A00F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B45D-3F95-40FC-A884-1234F1581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966A-1623-4467-A70F-F83FA473E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3775-B259-4663-AEA6-63938D8F9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792B-6AA9-41C7-A7F7-28B30C64B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6765-F3E2-4707-8E29-CF203D0E9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115D-0B80-46F0-82FD-65C68834B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3A10-4277-4E7A-B269-142AD19DB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7727-617B-4ADC-BFB2-4F26E816E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9656-586C-425F-92AB-C831D6F05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91A-D0AA-42F4-A6C3-B0C7E3CE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3B8-010E-4F78-B078-81ADFEAD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4E1-22AF-4824-B5FC-281B3379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930-AED6-4405-99FC-F86828AC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C65-8AC2-4281-BA0E-F8C2821C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46D-F86E-456A-8968-1DA275B8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4A7-4722-4921-97CC-A6CB2EAB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937-D377-439E-977A-3A52257E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080-AFFF-4461-8CE1-88AE2CBF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8C7-FFDD-4393-9F3F-04763770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CC5-92C0-499C-9EA9-0200975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5F4-6358-4ACF-905F-07C2D71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59B9-0B9E-4361-A4C8-194F40141D66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SBI3U - Mr.Vasili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E136-0A6B-415D-A33F-9E3895ACC10B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D6E-39D4-40DC-88B0-1DF4C2B4C90E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C112-1CF3-4DC0-91DF-116539A25AAE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77708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41e1e"/>
                </a:solidFill>
                <a:latin typeface="Comic Sans MS"/>
              </a:rPr>
              <a:t>UNIT 1: CELLULAR BIOLOG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41e1e"/>
                </a:solidFill>
                <a:latin typeface="Comic Sans MS"/>
              </a:rPr>
              <a:t>Cell Theory &amp; the Microscope</a:t>
            </a:r>
            <a:endParaRPr b="0" lang="en-US" sz="40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51" name="Picture 18" descr="SuperStock_1612R-2774"/>
          <p:cNvPicPr/>
          <p:nvPr/>
        </p:nvPicPr>
        <p:blipFill>
          <a:blip r:embed="rId1"/>
          <a:stretch/>
        </p:blipFill>
        <p:spPr>
          <a:xfrm>
            <a:off x="4767120" y="3716280"/>
            <a:ext cx="4125960" cy="283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huge"/>
          <p:cNvPicPr/>
          <p:nvPr/>
        </p:nvPicPr>
        <p:blipFill>
          <a:blip r:embed="rId2"/>
          <a:stretch/>
        </p:blipFill>
        <p:spPr>
          <a:xfrm>
            <a:off x="179280" y="371628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croscope #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YOUR #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IT DOWN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BEE3-C2D8-468C-AB51-EE7506DA7A13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E1ED-0ADF-41DC-B972-C46373587EA0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croscope Activity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101" name="Picture 4" descr="act005"/>
          <p:cNvPicPr/>
          <p:nvPr/>
        </p:nvPicPr>
        <p:blipFill>
          <a:blip r:embed="rId1"/>
          <a:stretch/>
        </p:blipFill>
        <p:spPr>
          <a:xfrm>
            <a:off x="1571760" y="5357880"/>
            <a:ext cx="3887640" cy="118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428760" y="1214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Obtain a microscope.  Working in pairs, identify all       of the parts of the micro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28760" y="2071800"/>
            <a:ext cx="7929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activity (Resolution) on page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each of you answers questions a, b and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 &amp; cover slip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ured picture from a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This%20is%20a%20test"/>
          <p:cNvPicPr/>
          <p:nvPr/>
        </p:nvPicPr>
        <p:blipFill>
          <a:blip r:embed="rId2"/>
          <a:stretch/>
        </p:blipFill>
        <p:spPr>
          <a:xfrm>
            <a:off x="6429240" y="3714840"/>
            <a:ext cx="2116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 Work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page 8 (take notes on TEM &amp; SE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page 9 # 1, 2, 4,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ll Theory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living things are composed of one or more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ls are the basic structural and functional units of lif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cells arise from the division of other c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Robert Hooke discover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ls in 165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? ……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cell"/>
          <p:cNvPicPr/>
          <p:nvPr/>
        </p:nvPicPr>
        <p:blipFill>
          <a:blip r:embed="rId1"/>
          <a:stretch/>
        </p:blipFill>
        <p:spPr>
          <a:xfrm>
            <a:off x="7157880" y="260280"/>
            <a:ext cx="198612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robert_hooke"/>
          <p:cNvPicPr/>
          <p:nvPr/>
        </p:nvPicPr>
        <p:blipFill>
          <a:blip r:embed="rId2"/>
          <a:stretch/>
        </p:blipFill>
        <p:spPr>
          <a:xfrm>
            <a:off x="7236000" y="4508640"/>
            <a:ext cx="1736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58" name="Picture 5" descr="fg14_3_1"/>
          <p:cNvPicPr/>
          <p:nvPr/>
        </p:nvPicPr>
        <p:blipFill>
          <a:blip r:embed="rId1"/>
          <a:stretch/>
        </p:blipFill>
        <p:spPr>
          <a:xfrm>
            <a:off x="684360" y="1628640"/>
            <a:ext cx="4038480" cy="448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138-microscopes-lg"/>
          <p:cNvPicPr/>
          <p:nvPr/>
        </p:nvPicPr>
        <p:blipFill>
          <a:blip r:embed="rId2"/>
          <a:stretch/>
        </p:blipFill>
        <p:spPr>
          <a:xfrm>
            <a:off x="5867280" y="1700280"/>
            <a:ext cx="2438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two len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ocular lens (10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objective lens (4X, 10X, 40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ow 4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Medium 10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High 40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agnif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ility of lenses to enlar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mage of a speci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ification = ocular lens X objective l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0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   10X     times     40X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7" descr="magnification"/>
          <p:cNvPicPr/>
          <p:nvPr/>
        </p:nvPicPr>
        <p:blipFill>
          <a:blip r:embed="rId1"/>
          <a:stretch/>
        </p:blipFill>
        <p:spPr>
          <a:xfrm>
            <a:off x="5715000" y="2286000"/>
            <a:ext cx="3193920" cy="3193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500040" y="5572080"/>
            <a:ext cx="62658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4967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mount of detail s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viewing a speci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resolution = blurred 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resolution = clear, sharp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blurry_20030715"/>
          <p:cNvPicPr/>
          <p:nvPr/>
        </p:nvPicPr>
        <p:blipFill>
          <a:blip r:embed="rId1"/>
          <a:srcRect l="33286" t="0" r="10850" b="16042"/>
          <a:stretch/>
        </p:blipFill>
        <p:spPr>
          <a:xfrm>
            <a:off x="5651640" y="1413000"/>
            <a:ext cx="302400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ell1"/>
          <p:cNvPicPr/>
          <p:nvPr/>
        </p:nvPicPr>
        <p:blipFill>
          <a:blip r:embed="rId2"/>
          <a:srcRect l="30564" t="0" r="0" b="11399"/>
          <a:stretch/>
        </p:blipFill>
        <p:spPr>
          <a:xfrm>
            <a:off x="5678640" y="3938760"/>
            <a:ext cx="2997000" cy="2187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9E3A-FDBC-432B-8203-F762CA855EF1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34B1-BE78-4709-8B1D-5D02A37B706A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lba Super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1341360"/>
          <a:ext cx="445428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445428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6"/>
          <p:cNvSpPr/>
          <p:nvPr/>
        </p:nvSpPr>
        <p:spPr>
          <a:xfrm>
            <a:off x="5506920" y="873000"/>
            <a:ext cx="3168720" cy="60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 ocul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 body tub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. ar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 clip adjustment kn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ving nose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. stage cl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1. st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. condens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3. diaphrag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4. l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5. 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oc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piece lens, magnifies 10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body t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ts light into ocular, sup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stage clip adjustment kn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ves slide a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coarse adjustment kn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ves stage up and down to focus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Text Box 150"/>
          <p:cNvSpPr/>
          <p:nvPr/>
        </p:nvSpPr>
        <p:spPr>
          <a:xfrm>
            <a:off x="3708360" y="2270160"/>
            <a:ext cx="489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3708360" y="3789360"/>
            <a:ext cx="489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3708360" y="430524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4"/>
          <p:cNvSpPr/>
          <p:nvPr/>
        </p:nvSpPr>
        <p:spPr>
          <a:xfrm>
            <a:off x="3635280" y="530064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5"/>
          <p:cNvSpPr/>
          <p:nvPr/>
        </p:nvSpPr>
        <p:spPr>
          <a:xfrm>
            <a:off x="3708360" y="278136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95792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fine adjustment kno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e focus for most clear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revolving   nosepie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ds objective lenses &amp; facilitates changing magn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objective 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rther magnifies the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aper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ing to allow light to hit the speci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 stage cl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ds slide in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Text Box 46"/>
          <p:cNvSpPr/>
          <p:nvPr/>
        </p:nvSpPr>
        <p:spPr>
          <a:xfrm>
            <a:off x="3780000" y="2276640"/>
            <a:ext cx="4824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7"/>
          <p:cNvSpPr/>
          <p:nvPr/>
        </p:nvSpPr>
        <p:spPr>
          <a:xfrm>
            <a:off x="3708360" y="3213000"/>
            <a:ext cx="482436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708360" y="4594320"/>
            <a:ext cx="4824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3708360" y="5170320"/>
            <a:ext cx="4824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3708360" y="6086520"/>
            <a:ext cx="4824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415116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 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ce specimen on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 conden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cuses light into a b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 diaphrag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ols the amount of light hitting the speci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 ligh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nds out light rays so specimen is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pports microsc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3851280" y="2205000"/>
            <a:ext cx="4608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3780000" y="2846520"/>
            <a:ext cx="460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3708360" y="3422520"/>
            <a:ext cx="47512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3708360" y="4365720"/>
            <a:ext cx="47512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3780000" y="5294160"/>
            <a:ext cx="4608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3:45:35Z</dcterms:created>
  <dc:creator>Candle</dc:creator>
  <dc:description/>
  <dc:language>en-US</dc:language>
  <cp:lastModifiedBy>Preferred Customer</cp:lastModifiedBy>
  <dcterms:modified xsi:type="dcterms:W3CDTF">2010-06-22T13:08:53Z</dcterms:modified>
  <cp:revision>111</cp:revision>
  <dc:subject/>
  <dc:title>Slide 1</dc:title>
</cp:coreProperties>
</file>